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8A4-D0A2-4597-97C8-C9385469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760-5026-42F1-B7EE-E122891E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738-EF8C-476C-80EF-8FCD1297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446-1BCD-4999-A067-77BEF172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738-EC56-4321-9425-C6BB086B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31A-2CF7-4428-9C9B-EF55B207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280-C410-4781-8DAB-4DFA1896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508-4430-476C-9ED8-14715810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558-DE7D-4AD9-9134-61AC0035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13E-0E0E-4239-9489-66D149F3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A500-AE46-427E-B84E-93DF8006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908-02F9-4E5F-B8F0-F54D56B9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D9A2-EC14-4856-A3D3-6A4693BEF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257987lPLwnGivWK_ph" descr=""/>
          <p:cNvPicPr/>
          <p:nvPr/>
        </p:nvPicPr>
        <p:blipFill>
          <a:blip r:embed="rId1"/>
          <a:stretch/>
        </p:blipFill>
        <p:spPr>
          <a:xfrm>
            <a:off x="3657600" y="-571680"/>
            <a:ext cx="6095880" cy="800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4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920"/>
            <a:ext cx="3581280" cy="9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أنا قلتُ يا ربُّ ا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إشفِ نفسي خطئتُ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طوبى لمَن يراعي المسك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ينقذهُ الرب في يوم السوء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أنا قلتُ يا ربُّ ا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إشفِ نفسي خطئتُ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h0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876960" y="228600"/>
            <a:ext cx="6419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الربُّ يعضُدُهُ على سرير الأل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أنا قلتُ يا ربُّ ا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إشفِ نفسي خطئتُ إليك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07:50:20Z</dcterms:created>
  <dc:creator>SUZANNE.MD</dc:creator>
  <dc:description/>
  <dc:language>en-US</dc:language>
  <cp:lastModifiedBy>USER</cp:lastModifiedBy>
  <dcterms:modified xsi:type="dcterms:W3CDTF">2003-02-20T14:08:25Z</dcterms:modified>
  <cp:revision>2</cp:revision>
  <dc:subject/>
  <dc:title>PowerPoint Presentation</dc:title>
</cp:coreProperties>
</file>